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5.gif" ContentType="image/gif"/>
  <Override PartName="/ppt/media/image9.png" ContentType="image/png"/>
  <Override PartName="/ppt/media/image6.png" ContentType="image/png"/>
  <Override PartName="/ppt/media/image7.gif" ContentType="image/gif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DBFF-6434-49FB-AB3E-6F5ED9919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99ED-5574-490E-897C-381A82E7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B892-903C-47C8-BF13-305591614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F432-C385-44FA-BDAD-7E876A8A2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E7EA-3D8D-4069-AC0C-79F5F9D2B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7331-A9EF-4B66-A8A6-661D9FCE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74EB-B35E-4640-B7A7-D4C0E07A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4C75-E6B9-43CC-B59D-C5E00AEE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352DD-A30C-4DE3-B697-313BC5F2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0B0C-7B69-4432-B960-74CBA75B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C3A1-699C-4167-A681-B1BD9F5A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5286-0C2E-4895-881D-7ED506A6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BEB73-A45A-4F3F-A27F-A61B036F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0A6B5-336A-4019-987D-38D16542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AEF4-AB03-4D5C-B123-F6AEDF00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43ED-3ED4-460F-A017-943788987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3ECD-5812-4E64-AB7C-ECB773E9D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027B-77AC-462E-B59D-B8907191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DAFA-F817-4B87-9789-D99115B8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FB00-D491-460E-B365-0171AF80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BC89-BE80-4D8B-9CD9-6F132A5D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94D9-A681-411A-A305-94CC55D1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9B12-7048-4158-8070-B2BE43BB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93C2-6BE9-4008-B2AE-B70601AD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002C-30B7-4DA6-9549-35869F17382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55BD-9A8F-4D3D-AEA1-89CBACD36F8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89308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Arial"/>
              </a:rPr>
              <a:t>Исследовательская группа</a:t>
            </a:r>
            <a:br>
              <a:rPr sz="6000"/>
            </a:br>
            <a:r>
              <a:rPr b="1" lang="en-US" sz="6000" spc="-1" strike="noStrike">
                <a:solidFill>
                  <a:srgbClr val="ccecff"/>
                </a:solidFill>
                <a:latin typeface="Arial"/>
              </a:rPr>
              <a:t>«Землемеры»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71640" y="4436640"/>
            <a:ext cx="77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Как соотносятся площади и периметры фигур?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А если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фигура не является прямоугольником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5545080" cy="2376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73200" y="4508640"/>
            <a:ext cx="822960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У равновеликих фигур чем больше вершин, тем больше перимет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Times New Roman"/>
              </a:rPr>
              <a:t>Вывод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. Если периметр одного прямоугольника больше, то и его площадь больше, чем у других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. Ели периметры прямоугольников равны, то площади могут быть различны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. Из всех прямоугольников с равными периметрами наибольшую площадь имеет квадрат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4. У равновеликих фигур чем больше вершин, тем больше периметр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79280" y="400320"/>
            <a:ext cx="896472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cc"/>
                </a:solidFill>
                <a:uFillTx/>
                <a:latin typeface="Verdana"/>
              </a:rPr>
              <a:t>Цели исследо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ыявить зависимость между периметрами фигур и их площадью.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cc"/>
                </a:solidFill>
                <a:uFillTx/>
                <a:latin typeface="Verdana"/>
              </a:rPr>
              <a:t>Гипоте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Чем больше периметр, тем больше площадь фигу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Что нужно выясни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Какие свойства периметра и площади фигур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Как связаны периметры и площади прямоугольников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Какая фигура имеет наибольшую площадь при заданном периметре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Какие единицы измерения площади используются для измерения земли?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Times New Roman"/>
              </a:rPr>
              <a:t>Мы знаем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ериметр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 сумма длин всех сторон многоугольник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413000"/>
            <a:ext cx="5111640" cy="13683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24000" y="2421000"/>
            <a:ext cx="91440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444600" indent="-4446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лощадь фигуры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 величина, показывающая сколько места занимает фигура на плоск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войств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Равные фигуры имеют равные площад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лощадь всей фигуры равна сумме площадей ее часте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За единицу площади принимают площадь квадрата со стороной, равному единичному отрез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564000" y="4005360"/>
            <a:ext cx="294300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57200" y="4292640"/>
            <a:ext cx="822960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Если у одой фигуры больше периметр, чем у второй, то ее площадь больше, меньше или по-разному?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3276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Заметили, если периметр одного прямоугольника больше, то и его площадь больше чем у други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Но если периметры равны то площади могут быть различн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40360" y="4653000"/>
            <a:ext cx="47527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т чего зависят площади прямоугольников, если их периметры равны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197000"/>
            <a:ext cx="914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Сначала мы рассмотрим прямоугольн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851280" y="1916280"/>
            <a:ext cx="488628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820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Какой из всех прямоугольников заданного периметра имеет наибольшую площадь?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ешение этой задачи было известно ещё математикам Древней Греции. Оно изложено в книге Евклида, где доказывается, что, если рассмотреть прямоугольник и квадрат одного и того же периметра, то площадь квадрата будет больше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79280" y="-1713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451640" y="5084640"/>
            <a:ext cx="128448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2997360"/>
            <a:ext cx="8229600" cy="31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Из рисунка видно, что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наибольшая площадь у прямоугольников, у которых длина равна ширине, то есть у квадрат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Значит, из всех прямоугольников с равными периметрами наибольшую площадь имеет квадра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476360" y="549360"/>
            <a:ext cx="54579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Times New Roman"/>
              </a:rPr>
              <a:t>Как Пахом покупал землю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Задача Льва Толстого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А цена какая будет?- говорит Пахо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Цена у нас одна: 1000 руб.за день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 понял Пахо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акая же это мера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– ден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колько в ней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десятин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удет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ы этого, - говорит, не умеем считать.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А мы за день продаем: сколько обойдешь в день, то и твое, а цена дню 100 рублей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ой хочешь круг забирай, только до захода солнца приходи к тому месту, с какого взялся. Что обойдешь все тво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акой путь должен выбрать Пахом, чтобы получить большую площадь земли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740720" y="765000"/>
            <a:ext cx="76356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Какой путь должен выбрать Пахом, чтобы получить большую площадь земли?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604836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Теперь мы знаем, что Пахом должен идти по сторонам квадрат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А какие еще есть единицы площади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588000" y="1989000"/>
            <a:ext cx="2305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Для измерения земли используются следующие единицы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Метрические единицы площад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0 квадратных метров – а (ар)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ар = 100 м2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вадрат со стороной 100 метров 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а (гектар)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га = 10000 м2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Неметрические единицы площади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39640" y="4941720"/>
            <a:ext cx="726768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6T05:53:25Z</dcterms:created>
  <dc:creator>Admin</dc:creator>
  <dc:description/>
  <dc:language>en-US</dc:language>
  <cp:lastModifiedBy>Admin</cp:lastModifiedBy>
  <dcterms:modified xsi:type="dcterms:W3CDTF">2010-05-16T15:04:00Z</dcterms:modified>
  <cp:revision>4</cp:revision>
  <dc:subject/>
  <dc:title>Исследовательская группа «Землемеры»</dc:title>
</cp:coreProperties>
</file>